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802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12CFB5-1628-4852-BC79-E04C643FFA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D5066D4-B7EB-44E0-9754-47E051ED7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E16E0AC-ECF7-4D54-BBB7-40DE7AFE83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D6EC67-97CE-403E-94A1-E7A6BD322AD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26FAE3-FD34-4024-9C7B-BC356C329F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19777F-3D18-4E0A-9EED-A771406F97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101C13-0870-4864-935F-86C9E12501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F02865-6785-406E-8121-5B2D8DF9C2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BB85E53-DBF8-4AFC-96A3-C3E75BA310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731FD55-40AB-452C-85CE-357063EDCA6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623E808-F2C2-42B5-9313-CC1E4457AFC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1000F5D-C5D2-4F28-B52A-45E1C771A0E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B4F1A8-C7E8-4A5F-B960-D01CA5B70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A8CCE7-68EE-4B51-BEC4-8962B185BB7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A01BC37-E720-4001-8536-A2F7B2B9C29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A5EEED9-E193-4496-9B1A-2A56BA747D7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CE3BA6F-7CC0-4F77-B1B8-FE077C44A73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5E6F580-CC5D-4198-BD10-F04F7D96764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B525BD-4AC7-4578-9722-7404E466CD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F46B9F-31ED-402F-B688-854C5683CBB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2FD2E7-4F31-4E71-8802-2C8CFE1BB64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9F6FDF-4068-4168-8CC6-50A52375876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7E95BD5-E136-4D6B-B127-2BD47D950D5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0E49152-63E2-4A60-AAA6-67E190462FD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76B6819-231C-4A31-A755-3D7FD224FA1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B66A329-BFE5-4E23-BE9A-6BFB5DF9598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01D97B7-6A52-4F22-8224-A50B9AF7935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EF4A352-1E7A-49E9-A243-04130C464D2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9685FAF-7B79-4693-B115-DA9ADC375F9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3CF3CB-277A-459A-BDDD-667D5AEED63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218B551-7FB6-4A6A-8B71-8E1D4542B36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C7F20B-090F-4B62-888C-2F81BC41BC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20FA2C-2C2C-47C5-A3C3-D5884026510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CE556D-AD63-4468-8B79-68566E8C1F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6DAA90-75A0-42BF-9C42-B99107C89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B2D6147-E535-4869-AA1C-7E5AC702C13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53BE404-AB09-4B25-A0C8-7C1755A88A6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9DAC88A-E56A-4A06-BCBE-04FC324D57D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1C13D03-43C0-4633-8169-0B289264998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BDF0AE-0EDC-4842-B9EB-1797C5DB6B0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1ACCC33-AC57-4C5D-BC29-E6238AE5A14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94DE0F3-4BE4-4625-B188-6D5FAC864E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3A412BD-5A04-47E8-8B8E-130B5BFB070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E8D2729-D690-443A-8827-A382D9D73DC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03AA72A-F007-408C-8AEC-A4CEE1D156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7FFE8-EDDA-4E5D-9375-30ED97522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EF14D9-9915-42EE-BA28-E45F45B782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CFF629D-1A04-401F-94FD-2B26B5451F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20CA509-4F05-45A1-A76E-2D500E50EE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1D8BA16-48D3-431E-ABA3-87B153F8CBC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E3E7BFB-A173-4040-9D23-46276A2D587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68C7B9C-A8FE-49C5-BC90-E1B53CEE4D3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7B11520-A6A3-41F5-B97E-B321DD8D17A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274AE60-8BBD-4172-B0FC-B44B40D42C7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2694EB0-9AE2-4D4F-9E7E-2DB63D436D0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DDB5555-F6A8-4FD4-AB27-7B10C7B0C14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2C2C5-1677-4A58-A5D9-C5E1AFD58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114E281-BABA-4502-B75D-09A29EDA4D0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7D9FE81-2C10-4CC5-A530-6CC6C5F74E3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838ECD2-3E51-490C-915B-D53142A84A0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04C9CD-E5BF-4729-AEA9-515F3C67AF1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15C3D91-EB07-4106-80D1-EE1CD43CEB5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A823119-2C5B-4A44-8FCC-FB6E0375BAE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B1E9801-238F-4547-9AE2-412CFC20200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7F4BB-1405-4ED2-BE42-BA57276FB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F1099-4C3F-4F60-AA5E-C03EBE630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0C1CD-D101-4DDB-ADCC-1ED0396ED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71649-4EF6-4AA2-9E50-80E96A0CC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CFC1B6-ACE1-4185-B505-488366946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23880-7F56-43E3-B413-EF4DEFE83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EA7C2-909E-49C4-871A-FC6024FC0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F51CC3-E095-4C26-A5A9-85A424FF2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43A88-4A77-459D-922F-3917DF2154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43FFD0-0BB6-481A-A76D-2FCAE65A9B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262A28F-0A21-4349-9F1A-EC3EBEC61E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D8EE3C-1671-4070-BB59-A18840A890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F52DA4-95BC-421E-8B30-C883DB43EF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38569B-30C2-4513-B5D5-FECE65C22B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13A2AB-7BA4-461A-AACA-FA8DF32373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B22653-087F-459E-A86D-023387AA3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15130F-966F-4FAE-A735-2A70BD6840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D9974C-6ABA-45F0-B472-6F3A3E45F1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F7CD5D-82B3-4EC2-81B3-FFADF1B486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5EE23C-0205-4B88-BC50-8F56CD5BF2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A04065-3D00-4F8E-BFA7-12FEE6B5AC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7AF813-9AD5-40CD-90FD-279CEBD482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EFF89C-F645-454D-8DD8-61C66B2BA59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5F3CE0-125B-43E5-873B-71D9DD6F3F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69AC0B-4F7F-41C6-A27E-216B801625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9DF9C6-AD7C-4E24-B03E-90E0C6DB08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1D0B905-8AF0-44DD-8C71-00939ED92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39B133-F5E0-4386-BE10-1B3F44BF84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7A4463-47A9-463C-8712-335C725FE7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D61FA5-9CFD-4D79-9FFC-57E0A3D8C5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73B9B6-D670-4C1B-AAF0-91DD330757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EBDA12-3B97-48F0-81D4-95BBAF677A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3DA5F8-D2AE-49B2-A60A-5BE8A21C85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E277FC-DC92-44C6-AC45-F427139ECB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31EE39-4189-4CAE-8599-527BF91CE6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3B92D0-8B63-43BB-BBC2-440FACB669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032D5BB-D57F-4823-B86E-4AF87BE0AD2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6D91B39-3ACD-454C-8063-EDDF966D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972DBD-626F-4572-B077-303832FAF1C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B29DEC-85AC-4B4D-8081-E835453CE0D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134EA5-F26E-48D8-8100-4E8FEEEF8E5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63AC1A-CFF1-46F7-839B-67E1D3ACB0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11DF84-B74A-4960-A415-FE18CA71E2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D0E947-34B6-4FD7-97A1-36798FE9A5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00FCB3-9409-4F90-B4E5-6C3E6510D0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E7083B-D174-43E7-8810-2BF253A213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2A3061-22A7-4AAD-9B09-7D4828CA6E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B97291-2540-4F0D-9036-20CC253654C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15A394F-153E-4C07-827B-BB9EBAD09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E2D312C-0CA5-4A6D-A349-1016326BBF7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6475C0-81BF-43F0-9708-934A4469E8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685E9D4-41BC-40BE-931E-40473782077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5DC78B-5CD9-4671-A410-7C55ECEBC9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3B529F-6AC6-4E1A-A9F5-F1B69CA09D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0031E4-EB60-4A6C-98B8-A0305F6707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04ED41-372E-4829-97DA-0E91C82DE7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99C6E9-27E6-4539-BCD2-291E87879F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035335-7091-4DC5-9D1C-375DBE3C9D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6E35FA-8377-4785-92B2-C860EC347D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9DF75E-6A35-4983-AEAA-43AD66F18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BE4125-8EFF-47F8-8B8B-2D8469611E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321AD81-DEA1-4A8A-AF81-478E5C37D19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8406A34-65A6-4A66-88CC-988F1BB45CE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29FC28-7383-4157-8A0E-CD8547DCC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E208442-1382-4F9A-A2B5-30780F231B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F33156-8D08-49A1-9150-74FD4B2BC18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B940D0B-AF1F-416C-B3E6-D047513D1D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8B1F1A0-A789-4D5A-8932-2B4D568569B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EBF5B8A-68C5-4642-911F-22996DDC802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97E2A7-1FF3-4D83-9918-0B6E0F2F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FD58C1-B777-48F4-AB7E-5F0D0ADC03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779FE6-D7EE-4378-A73E-43CCAE1407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828440"/>
            <a:ext cx="40158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BC1B4F-B46F-4B9D-AD41-268C2676956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F7DB0C-2625-4137-9A5C-E4245C9CDA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8284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4073040"/>
            <a:ext cx="822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5827C4F-2C86-4D59-AF11-ED00A13C7A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8284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4073040"/>
            <a:ext cx="40158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D0DBE4-1C10-4F2A-8861-5E617D4F96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8284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4073040"/>
            <a:ext cx="264960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50C1CC4-953F-457E-BFC7-DAA7EDF1077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26EB118-D205-4A82-85EF-1A6DBFC359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457200" y="1828440"/>
            <a:ext cx="822960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40A86E-EAED-4198-8DEE-50DF007211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7D2A36-9E66-4840-9640-922ACB3E484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7.jpeg"/><Relationship Id="rId5" Type="http://schemas.openxmlformats.org/officeDocument/2006/relationships/image" Target="../media/image2.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pic>
          <p:nvPicPr>
            <p:cNvPr id="1" name="Picture 8" descr="PPT Template3.jpg"/>
            <p:cNvPicPr/>
            <p:nvPr/>
          </p:nvPicPr>
          <p:blipFill>
            <a:blip r:embed="rId2"/>
            <a:stretch/>
          </p:blipFill>
          <p:spPr>
            <a:xfrm>
              <a:off x="0" y="0"/>
              <a:ext cx="9144000" cy="6858000"/>
            </a:xfrm>
            <a:prstGeom prst="rect">
              <a:avLst/>
            </a:prstGeom>
            <a:ln w="0">
              <a:noFill/>
            </a:ln>
          </p:spPr>
        </p:pic>
        <p:pic>
          <p:nvPicPr>
            <p:cNvPr id="2" name="Picture 1" descr="SAMHSA title header.jpg"/>
            <p:cNvPicPr/>
            <p:nvPr/>
          </p:nvPicPr>
          <p:blipFill>
            <a:blip r:embed="rId3"/>
            <a:stretch/>
          </p:blipFill>
          <p:spPr>
            <a:xfrm>
              <a:off x="6477120" y="6096240"/>
              <a:ext cx="2434680" cy="685800"/>
            </a:xfrm>
            <a:prstGeom prst="rect">
              <a:avLst/>
            </a:prstGeom>
            <a:ln w="0">
              <a:noFill/>
            </a:ln>
          </p:spPr>
        </p:pic>
      </p:grpSp>
      <p:sp>
        <p:nvSpPr>
          <p:cNvPr id="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4F48-8B55-4D6E-8E59-79CC37B3A423}"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8BB7-5344-47EB-AD6D-6B20021BCDC6}"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2"/>
          <p:cNvGrpSpPr/>
          <p:nvPr/>
        </p:nvGrpSpPr>
        <p:grpSpPr>
          <a:xfrm>
            <a:off x="0" y="0"/>
            <a:ext cx="9144000" cy="6858000"/>
            <a:chOff x="0" y="0"/>
            <a:chExt cx="9144000" cy="6858000"/>
          </a:xfrm>
        </p:grpSpPr>
        <p:pic>
          <p:nvPicPr>
            <p:cNvPr id="402" name="Picture 8" descr="PPT Template3.jpg"/>
            <p:cNvPicPr/>
            <p:nvPr/>
          </p:nvPicPr>
          <p:blipFill>
            <a:blip r:embed="rId2"/>
            <a:stretch/>
          </p:blipFill>
          <p:spPr>
            <a:xfrm>
              <a:off x="0" y="0"/>
              <a:ext cx="9144000" cy="6858000"/>
            </a:xfrm>
            <a:prstGeom prst="rect">
              <a:avLst/>
            </a:prstGeom>
            <a:ln w="0">
              <a:noFill/>
            </a:ln>
          </p:spPr>
        </p:pic>
        <p:pic>
          <p:nvPicPr>
            <p:cNvPr id="403" name="Picture 1" descr="SAMHSA title header.jpg"/>
            <p:cNvPicPr/>
            <p:nvPr/>
          </p:nvPicPr>
          <p:blipFill>
            <a:blip r:embed="rId3"/>
            <a:stretch/>
          </p:blipFill>
          <p:spPr>
            <a:xfrm>
              <a:off x="6477120" y="6096240"/>
              <a:ext cx="2434680" cy="685800"/>
            </a:xfrm>
            <a:prstGeom prst="rect">
              <a:avLst/>
            </a:prstGeom>
            <a:ln w="0">
              <a:noFill/>
            </a:ln>
          </p:spPr>
        </p:pic>
      </p:grpSp>
      <p:sp>
        <p:nvSpPr>
          <p:cNvPr id="40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6" name="PlaceHolder 3"/>
          <p:cNvSpPr>
            <a:spLocks noGrp="1"/>
          </p:cNvSpPr>
          <p:nvPr>
            <p:ph type="dt" idx="24"/>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71FD-609F-46FC-A2DF-37C32ED02538}"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0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406C-E4F2-4CF8-BA81-5EDEF8C080AD}"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Group 2"/>
          <p:cNvGrpSpPr/>
          <p:nvPr/>
        </p:nvGrpSpPr>
        <p:grpSpPr>
          <a:xfrm>
            <a:off x="0" y="0"/>
            <a:ext cx="9144000" cy="6858000"/>
            <a:chOff x="0" y="0"/>
            <a:chExt cx="9144000" cy="6858000"/>
          </a:xfrm>
        </p:grpSpPr>
        <p:pic>
          <p:nvPicPr>
            <p:cNvPr id="446" name="Picture 8" descr="PPT Template3.jpg"/>
            <p:cNvPicPr/>
            <p:nvPr/>
          </p:nvPicPr>
          <p:blipFill>
            <a:blip r:embed="rId2"/>
            <a:stretch/>
          </p:blipFill>
          <p:spPr>
            <a:xfrm>
              <a:off x="0" y="0"/>
              <a:ext cx="9144000" cy="6858000"/>
            </a:xfrm>
            <a:prstGeom prst="rect">
              <a:avLst/>
            </a:prstGeom>
            <a:ln w="0">
              <a:noFill/>
            </a:ln>
          </p:spPr>
        </p:pic>
        <p:pic>
          <p:nvPicPr>
            <p:cNvPr id="447" name="Picture 1" descr="SAMHSA title header.jpg"/>
            <p:cNvPicPr/>
            <p:nvPr/>
          </p:nvPicPr>
          <p:blipFill>
            <a:blip r:embed="rId3"/>
            <a:stretch/>
          </p:blipFill>
          <p:spPr>
            <a:xfrm>
              <a:off x="6477120" y="6096240"/>
              <a:ext cx="2434680" cy="685800"/>
            </a:xfrm>
            <a:prstGeom prst="rect">
              <a:avLst/>
            </a:prstGeom>
            <a:ln w="0">
              <a:noFill/>
            </a:ln>
          </p:spPr>
        </p:pic>
      </p:grpSp>
      <p:sp>
        <p:nvSpPr>
          <p:cNvPr id="4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27"/>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C4A7-4352-4353-8625-D5C45B1AED1C}"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5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3005-2F78-4A9B-A8A5-F31EEA94EBC7}"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9" name="Group 2"/>
          <p:cNvGrpSpPr/>
          <p:nvPr/>
        </p:nvGrpSpPr>
        <p:grpSpPr>
          <a:xfrm>
            <a:off x="0" y="0"/>
            <a:ext cx="9144000" cy="6858000"/>
            <a:chOff x="0" y="0"/>
            <a:chExt cx="9144000" cy="6858000"/>
          </a:xfrm>
        </p:grpSpPr>
        <p:pic>
          <p:nvPicPr>
            <p:cNvPr id="490" name="Picture 8" descr="PPT Template3.jpg"/>
            <p:cNvPicPr/>
            <p:nvPr/>
          </p:nvPicPr>
          <p:blipFill>
            <a:blip r:embed="rId2"/>
            <a:stretch/>
          </p:blipFill>
          <p:spPr>
            <a:xfrm>
              <a:off x="0" y="0"/>
              <a:ext cx="9144000" cy="6858000"/>
            </a:xfrm>
            <a:prstGeom prst="rect">
              <a:avLst/>
            </a:prstGeom>
            <a:ln w="0">
              <a:noFill/>
            </a:ln>
          </p:spPr>
        </p:pic>
        <p:pic>
          <p:nvPicPr>
            <p:cNvPr id="491" name="Picture 1" descr="SAMHSA title header.jpg"/>
            <p:cNvPicPr/>
            <p:nvPr/>
          </p:nvPicPr>
          <p:blipFill>
            <a:blip r:embed="rId3"/>
            <a:stretch/>
          </p:blipFill>
          <p:spPr>
            <a:xfrm>
              <a:off x="6477120" y="6096240"/>
              <a:ext cx="2434680" cy="685800"/>
            </a:xfrm>
            <a:prstGeom prst="rect">
              <a:avLst/>
            </a:prstGeom>
            <a:ln w="0">
              <a:noFill/>
            </a:ln>
          </p:spPr>
        </p:pic>
      </p:grpSp>
      <p:sp>
        <p:nvSpPr>
          <p:cNvPr id="4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0"/>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C46C-1BC9-4155-BEED-30318AE5D148}"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95"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92D7-4796-477F-9911-166230FD033C}"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3" name="Group 2"/>
          <p:cNvGrpSpPr/>
          <p:nvPr/>
        </p:nvGrpSpPr>
        <p:grpSpPr>
          <a:xfrm>
            <a:off x="0" y="0"/>
            <a:ext cx="9144000" cy="6858000"/>
            <a:chOff x="0" y="0"/>
            <a:chExt cx="9144000" cy="6858000"/>
          </a:xfrm>
        </p:grpSpPr>
        <p:pic>
          <p:nvPicPr>
            <p:cNvPr id="534" name="Picture 8" descr="PPT Template3.jpg"/>
            <p:cNvPicPr/>
            <p:nvPr/>
          </p:nvPicPr>
          <p:blipFill>
            <a:blip r:embed="rId2"/>
            <a:stretch/>
          </p:blipFill>
          <p:spPr>
            <a:xfrm>
              <a:off x="0" y="0"/>
              <a:ext cx="9144000" cy="6858000"/>
            </a:xfrm>
            <a:prstGeom prst="rect">
              <a:avLst/>
            </a:prstGeom>
            <a:ln w="0">
              <a:noFill/>
            </a:ln>
          </p:spPr>
        </p:pic>
        <p:pic>
          <p:nvPicPr>
            <p:cNvPr id="535" name="Picture 1" descr="SAMHSA title header.jpg"/>
            <p:cNvPicPr/>
            <p:nvPr/>
          </p:nvPicPr>
          <p:blipFill>
            <a:blip r:embed="rId3"/>
            <a:stretch/>
          </p:blipFill>
          <p:spPr>
            <a:xfrm>
              <a:off x="6477120" y="6096240"/>
              <a:ext cx="2434680" cy="685800"/>
            </a:xfrm>
            <a:prstGeom prst="rect">
              <a:avLst/>
            </a:prstGeom>
            <a:ln w="0">
              <a:noFill/>
            </a:ln>
          </p:spPr>
        </p:pic>
      </p:grpSp>
      <p:sp>
        <p:nvSpPr>
          <p:cNvPr id="5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33"/>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0474-3F1A-4EE3-B828-074E4439EC08}"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539"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5"/>
          </p:nvPr>
        </p:nvSpPr>
        <p:spPr>
          <a:xfrm>
            <a:off x="8077320" y="1219320"/>
            <a:ext cx="914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8C4D-CACB-484F-84FD-138ABCA0EE3A}"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pic>
          <p:nvPicPr>
            <p:cNvPr id="44" name="Picture 8" descr="PPT Template3.jpg"/>
            <p:cNvPicPr/>
            <p:nvPr/>
          </p:nvPicPr>
          <p:blipFill>
            <a:blip r:embed="rId2"/>
            <a:stretch/>
          </p:blipFill>
          <p:spPr>
            <a:xfrm>
              <a:off x="0" y="0"/>
              <a:ext cx="9144000" cy="6858000"/>
            </a:xfrm>
            <a:prstGeom prst="rect">
              <a:avLst/>
            </a:prstGeom>
            <a:ln w="0">
              <a:noFill/>
            </a:ln>
          </p:spPr>
        </p:pic>
        <p:pic>
          <p:nvPicPr>
            <p:cNvPr id="45" name="Picture 1" descr="SAMHSA title header.jpg"/>
            <p:cNvPicPr/>
            <p:nvPr/>
          </p:nvPicPr>
          <p:blipFill>
            <a:blip r:embed="rId3"/>
            <a:stretch/>
          </p:blipFill>
          <p:spPr>
            <a:xfrm>
              <a:off x="6477120" y="6096240"/>
              <a:ext cx="2434680" cy="685800"/>
            </a:xfrm>
            <a:prstGeom prst="rect">
              <a:avLst/>
            </a:prstGeom>
            <a:ln w="0">
              <a:noFill/>
            </a:ln>
          </p:spPr>
        </p:pic>
      </p:grpSp>
      <p:grpSp>
        <p:nvGrpSpPr>
          <p:cNvPr id="46" name="Group 8"/>
          <p:cNvGrpSpPr/>
          <p:nvPr/>
        </p:nvGrpSpPr>
        <p:grpSpPr>
          <a:xfrm>
            <a:off x="0" y="0"/>
            <a:ext cx="9144000" cy="6858000"/>
            <a:chOff x="0" y="0"/>
            <a:chExt cx="9144000" cy="6858000"/>
          </a:xfrm>
        </p:grpSpPr>
        <p:pic>
          <p:nvPicPr>
            <p:cNvPr id="47" name="Picture 6" descr="PPT Template2.jpg"/>
            <p:cNvPicPr/>
            <p:nvPr/>
          </p:nvPicPr>
          <p:blipFill>
            <a:blip r:embed="rId4"/>
            <a:stretch/>
          </p:blipFill>
          <p:spPr>
            <a:xfrm>
              <a:off x="0" y="0"/>
              <a:ext cx="9144000" cy="6858000"/>
            </a:xfrm>
            <a:prstGeom prst="rect">
              <a:avLst/>
            </a:prstGeom>
            <a:ln w="0">
              <a:noFill/>
            </a:ln>
          </p:spPr>
        </p:pic>
        <p:pic>
          <p:nvPicPr>
            <p:cNvPr id="48" name="Picture 10" descr="SAMHSA dark tan header.jpg"/>
            <p:cNvPicPr/>
            <p:nvPr/>
          </p:nvPicPr>
          <p:blipFill>
            <a:blip r:embed="rId5"/>
            <a:srcRect l="3815" t="0" r="0" b="21683"/>
            <a:stretch/>
          </p:blipFill>
          <p:spPr>
            <a:xfrm>
              <a:off x="83520" y="228600"/>
              <a:ext cx="4031280" cy="924480"/>
            </a:xfrm>
            <a:prstGeom prst="rect">
              <a:avLst/>
            </a:prstGeom>
            <a:ln w="0">
              <a:noFill/>
            </a:ln>
          </p:spPr>
        </p:pic>
      </p:grpSp>
      <p:sp>
        <p:nvSpPr>
          <p:cNvPr id="4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3"/>
          </p:nvPr>
        </p:nvSpPr>
        <p:spPr>
          <a:xfrm>
            <a:off x="180180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7D21-F7B7-4BB2-8157-6786049066EF}"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52" name="PlaceHolder 4"/>
          <p:cNvSpPr>
            <a:spLocks noGrp="1"/>
          </p:cNvSpPr>
          <p:nvPr>
            <p:ph type="ftr" idx="4"/>
          </p:nvPr>
        </p:nvSpPr>
        <p:spPr>
          <a:xfrm>
            <a:off x="29444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5"/>
          </p:nvPr>
        </p:nvSpPr>
        <p:spPr>
          <a:xfrm>
            <a:off x="5306760" y="6356520"/>
            <a:ext cx="685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0DF4-5504-4590-B55D-2392EE6F4768}"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9144000" cy="6858000"/>
            <a:chOff x="0" y="0"/>
            <a:chExt cx="9144000" cy="6858000"/>
          </a:xfrm>
        </p:grpSpPr>
        <p:pic>
          <p:nvPicPr>
            <p:cNvPr id="91" name="Picture 8" descr="PPT Template3.jpg"/>
            <p:cNvPicPr/>
            <p:nvPr/>
          </p:nvPicPr>
          <p:blipFill>
            <a:blip r:embed="rId2"/>
            <a:stretch/>
          </p:blipFill>
          <p:spPr>
            <a:xfrm>
              <a:off x="0" y="0"/>
              <a:ext cx="9144000" cy="6858000"/>
            </a:xfrm>
            <a:prstGeom prst="rect">
              <a:avLst/>
            </a:prstGeom>
            <a:ln w="0">
              <a:noFill/>
            </a:ln>
          </p:spPr>
        </p:pic>
        <p:pic>
          <p:nvPicPr>
            <p:cNvPr id="92" name="Picture 1" descr="SAMHSA title header.jpg"/>
            <p:cNvPicPr/>
            <p:nvPr/>
          </p:nvPicPr>
          <p:blipFill>
            <a:blip r:embed="rId3"/>
            <a:stretch/>
          </p:blipFill>
          <p:spPr>
            <a:xfrm>
              <a:off x="6477120" y="6096240"/>
              <a:ext cx="2434680" cy="685800"/>
            </a:xfrm>
            <a:prstGeom prst="rect">
              <a:avLst/>
            </a:prstGeom>
            <a:ln w="0">
              <a:noFill/>
            </a:ln>
          </p:spPr>
        </p:pic>
      </p:grpSp>
      <p:sp>
        <p:nvSpPr>
          <p:cNvPr id="9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6"/>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7A3B-8864-4E0F-9F46-61D6389AE9B3}"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96"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B0A9-D2F8-48A9-A036-59AE35E7D2E2}"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2"/>
          <p:cNvGrpSpPr/>
          <p:nvPr/>
        </p:nvGrpSpPr>
        <p:grpSpPr>
          <a:xfrm>
            <a:off x="0" y="0"/>
            <a:ext cx="9144000" cy="6858000"/>
            <a:chOff x="0" y="0"/>
            <a:chExt cx="9144000" cy="6858000"/>
          </a:xfrm>
        </p:grpSpPr>
        <p:pic>
          <p:nvPicPr>
            <p:cNvPr id="135" name="Picture 8" descr="PPT Template3.jpg"/>
            <p:cNvPicPr/>
            <p:nvPr/>
          </p:nvPicPr>
          <p:blipFill>
            <a:blip r:embed="rId2"/>
            <a:stretch/>
          </p:blipFill>
          <p:spPr>
            <a:xfrm>
              <a:off x="0" y="0"/>
              <a:ext cx="9144000" cy="6858000"/>
            </a:xfrm>
            <a:prstGeom prst="rect">
              <a:avLst/>
            </a:prstGeom>
            <a:ln w="0">
              <a:noFill/>
            </a:ln>
          </p:spPr>
        </p:pic>
        <p:pic>
          <p:nvPicPr>
            <p:cNvPr id="136" name="Picture 1" descr="SAMHSA title header.jpg"/>
            <p:cNvPicPr/>
            <p:nvPr/>
          </p:nvPicPr>
          <p:blipFill>
            <a:blip r:embed="rId3"/>
            <a:stretch/>
          </p:blipFill>
          <p:spPr>
            <a:xfrm>
              <a:off x="6477120" y="6096240"/>
              <a:ext cx="2434680" cy="685800"/>
            </a:xfrm>
            <a:prstGeom prst="rect">
              <a:avLst/>
            </a:prstGeom>
            <a:ln w="0">
              <a:noFill/>
            </a:ln>
          </p:spPr>
        </p:pic>
      </p:grpSp>
      <p:sp>
        <p:nvSpPr>
          <p:cNvPr id="1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 name="PlaceHolder 3"/>
          <p:cNvSpPr>
            <a:spLocks noGrp="1"/>
          </p:cNvSpPr>
          <p:nvPr>
            <p:ph type="dt" idx="9"/>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7C6C-4AEC-4094-9B39-CE53246E27CD}"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14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C17F-F2EA-4960-B4E2-91AD97EB9BB6}"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0"/>
            <a:ext cx="9144000" cy="6858000"/>
            <a:chOff x="0" y="0"/>
            <a:chExt cx="9144000" cy="6858000"/>
          </a:xfrm>
        </p:grpSpPr>
        <p:pic>
          <p:nvPicPr>
            <p:cNvPr id="179" name="Picture 8" descr="PPT Template3.jpg"/>
            <p:cNvPicPr/>
            <p:nvPr/>
          </p:nvPicPr>
          <p:blipFill>
            <a:blip r:embed="rId2"/>
            <a:stretch/>
          </p:blipFill>
          <p:spPr>
            <a:xfrm>
              <a:off x="0" y="0"/>
              <a:ext cx="9144000" cy="6858000"/>
            </a:xfrm>
            <a:prstGeom prst="rect">
              <a:avLst/>
            </a:prstGeom>
            <a:ln w="0">
              <a:noFill/>
            </a:ln>
          </p:spPr>
        </p:pic>
        <p:pic>
          <p:nvPicPr>
            <p:cNvPr id="180" name="Picture 1" descr="SAMHSA title header.jpg"/>
            <p:cNvPicPr/>
            <p:nvPr/>
          </p:nvPicPr>
          <p:blipFill>
            <a:blip r:embed="rId3"/>
            <a:stretch/>
          </p:blipFill>
          <p:spPr>
            <a:xfrm>
              <a:off x="6477120" y="6096240"/>
              <a:ext cx="2434680" cy="685800"/>
            </a:xfrm>
            <a:prstGeom prst="rect">
              <a:avLst/>
            </a:prstGeom>
            <a:ln w="0">
              <a:noFill/>
            </a:ln>
          </p:spPr>
        </p:pic>
      </p:grpSp>
      <p:sp>
        <p:nvSpPr>
          <p:cNvPr id="18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2"/>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7635-C638-454B-A027-B8C144E0E340}"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18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F823-715E-45E8-B398-21921320064D}"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0" y="0"/>
            <a:ext cx="9144000" cy="6858000"/>
            <a:chOff x="0" y="0"/>
            <a:chExt cx="9144000" cy="6858000"/>
          </a:xfrm>
        </p:grpSpPr>
        <p:pic>
          <p:nvPicPr>
            <p:cNvPr id="223" name="Picture 8" descr="PPT Template3.jpg"/>
            <p:cNvPicPr/>
            <p:nvPr/>
          </p:nvPicPr>
          <p:blipFill>
            <a:blip r:embed="rId2"/>
            <a:stretch/>
          </p:blipFill>
          <p:spPr>
            <a:xfrm>
              <a:off x="0" y="0"/>
              <a:ext cx="9144000" cy="6858000"/>
            </a:xfrm>
            <a:prstGeom prst="rect">
              <a:avLst/>
            </a:prstGeom>
            <a:ln w="0">
              <a:noFill/>
            </a:ln>
          </p:spPr>
        </p:pic>
        <p:pic>
          <p:nvPicPr>
            <p:cNvPr id="224" name="Picture 1" descr="SAMHSA title header.jpg"/>
            <p:cNvPicPr/>
            <p:nvPr/>
          </p:nvPicPr>
          <p:blipFill>
            <a:blip r:embed="rId3"/>
            <a:stretch/>
          </p:blipFill>
          <p:spPr>
            <a:xfrm>
              <a:off x="6477120" y="6096240"/>
              <a:ext cx="2434680" cy="685800"/>
            </a:xfrm>
            <a:prstGeom prst="rect">
              <a:avLst/>
            </a:prstGeom>
            <a:ln w="0">
              <a:noFill/>
            </a:ln>
          </p:spPr>
        </p:pic>
      </p:grpSp>
      <p:sp>
        <p:nvSpPr>
          <p:cNvPr id="22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5"/>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2292-3BF6-48ED-8AF9-D3EA6D389B2E}"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228"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456D-4578-450C-9041-36A0458804D4}"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Group 2"/>
          <p:cNvGrpSpPr/>
          <p:nvPr/>
        </p:nvGrpSpPr>
        <p:grpSpPr>
          <a:xfrm>
            <a:off x="0" y="0"/>
            <a:ext cx="9144000" cy="6858000"/>
            <a:chOff x="0" y="0"/>
            <a:chExt cx="9144000" cy="6858000"/>
          </a:xfrm>
        </p:grpSpPr>
        <p:pic>
          <p:nvPicPr>
            <p:cNvPr id="267" name="Picture 8" descr="PPT Template3.jpg"/>
            <p:cNvPicPr/>
            <p:nvPr/>
          </p:nvPicPr>
          <p:blipFill>
            <a:blip r:embed="rId2"/>
            <a:stretch/>
          </p:blipFill>
          <p:spPr>
            <a:xfrm>
              <a:off x="0" y="0"/>
              <a:ext cx="9144000" cy="6858000"/>
            </a:xfrm>
            <a:prstGeom prst="rect">
              <a:avLst/>
            </a:prstGeom>
            <a:ln w="0">
              <a:noFill/>
            </a:ln>
          </p:spPr>
        </p:pic>
        <p:pic>
          <p:nvPicPr>
            <p:cNvPr id="268" name="Picture 1" descr="SAMHSA title header.jpg"/>
            <p:cNvPicPr/>
            <p:nvPr/>
          </p:nvPicPr>
          <p:blipFill>
            <a:blip r:embed="rId3"/>
            <a:stretch/>
          </p:blipFill>
          <p:spPr>
            <a:xfrm>
              <a:off x="6477120" y="6096240"/>
              <a:ext cx="2434680" cy="685800"/>
            </a:xfrm>
            <a:prstGeom prst="rect">
              <a:avLst/>
            </a:prstGeom>
            <a:ln w="0">
              <a:noFill/>
            </a:ln>
          </p:spPr>
        </p:pic>
      </p:grpSp>
      <p:grpSp>
        <p:nvGrpSpPr>
          <p:cNvPr id="269" name="Group 8"/>
          <p:cNvGrpSpPr/>
          <p:nvPr/>
        </p:nvGrpSpPr>
        <p:grpSpPr>
          <a:xfrm>
            <a:off x="-7920" y="0"/>
            <a:ext cx="9144000" cy="6858000"/>
            <a:chOff x="-7920" y="0"/>
            <a:chExt cx="9144000" cy="6858000"/>
          </a:xfrm>
        </p:grpSpPr>
        <p:pic>
          <p:nvPicPr>
            <p:cNvPr id="270" name="Picture 6" descr="PPT Template.jpg"/>
            <p:cNvPicPr/>
            <p:nvPr/>
          </p:nvPicPr>
          <p:blipFill>
            <a:blip r:embed="rId4"/>
            <a:stretch/>
          </p:blipFill>
          <p:spPr>
            <a:xfrm>
              <a:off x="-7920" y="0"/>
              <a:ext cx="9144000" cy="6858000"/>
            </a:xfrm>
            <a:prstGeom prst="rect">
              <a:avLst/>
            </a:prstGeom>
            <a:ln w="0">
              <a:noFill/>
            </a:ln>
          </p:spPr>
        </p:pic>
        <p:pic>
          <p:nvPicPr>
            <p:cNvPr id="271" name="Picture 10" descr="SAMHSA title header.jpg"/>
            <p:cNvPicPr/>
            <p:nvPr/>
          </p:nvPicPr>
          <p:blipFill>
            <a:blip r:embed="rId5"/>
            <a:srcRect l="290" t="-794" r="0" b="0"/>
            <a:stretch/>
          </p:blipFill>
          <p:spPr>
            <a:xfrm>
              <a:off x="0" y="0"/>
              <a:ext cx="7320960" cy="2054880"/>
            </a:xfrm>
            <a:prstGeom prst="rect">
              <a:avLst/>
            </a:prstGeom>
            <a:ln w="0">
              <a:noFill/>
            </a:ln>
          </p:spPr>
        </p:pic>
      </p:grpSp>
      <p:sp>
        <p:nvSpPr>
          <p:cNvPr id="27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2"/>
          <p:cNvGrpSpPr/>
          <p:nvPr/>
        </p:nvGrpSpPr>
        <p:grpSpPr>
          <a:xfrm>
            <a:off x="0" y="0"/>
            <a:ext cx="9144000" cy="6858000"/>
            <a:chOff x="0" y="0"/>
            <a:chExt cx="9144000" cy="6858000"/>
          </a:xfrm>
        </p:grpSpPr>
        <p:pic>
          <p:nvPicPr>
            <p:cNvPr id="311" name="Picture 8" descr="PPT Template3.jpg"/>
            <p:cNvPicPr/>
            <p:nvPr/>
          </p:nvPicPr>
          <p:blipFill>
            <a:blip r:embed="rId2"/>
            <a:stretch/>
          </p:blipFill>
          <p:spPr>
            <a:xfrm>
              <a:off x="0" y="0"/>
              <a:ext cx="9144000" cy="6858000"/>
            </a:xfrm>
            <a:prstGeom prst="rect">
              <a:avLst/>
            </a:prstGeom>
            <a:ln w="0">
              <a:noFill/>
            </a:ln>
          </p:spPr>
        </p:pic>
        <p:pic>
          <p:nvPicPr>
            <p:cNvPr id="312" name="Picture 1" descr="SAMHSA title header.jpg"/>
            <p:cNvPicPr/>
            <p:nvPr/>
          </p:nvPicPr>
          <p:blipFill>
            <a:blip r:embed="rId3"/>
            <a:stretch/>
          </p:blipFill>
          <p:spPr>
            <a:xfrm>
              <a:off x="6477120" y="6096240"/>
              <a:ext cx="2434680" cy="685800"/>
            </a:xfrm>
            <a:prstGeom prst="rect">
              <a:avLst/>
            </a:prstGeom>
            <a:ln w="0">
              <a:noFill/>
            </a:ln>
          </p:spPr>
        </p:pic>
      </p:grpSp>
      <p:grpSp>
        <p:nvGrpSpPr>
          <p:cNvPr id="313" name="Group 8"/>
          <p:cNvGrpSpPr/>
          <p:nvPr/>
        </p:nvGrpSpPr>
        <p:grpSpPr>
          <a:xfrm>
            <a:off x="0" y="0"/>
            <a:ext cx="9144000" cy="6858000"/>
            <a:chOff x="0" y="0"/>
            <a:chExt cx="9144000" cy="6858000"/>
          </a:xfrm>
        </p:grpSpPr>
        <p:pic>
          <p:nvPicPr>
            <p:cNvPr id="314" name="Picture 6" descr="PPT Template4.jpg"/>
            <p:cNvPicPr/>
            <p:nvPr/>
          </p:nvPicPr>
          <p:blipFill>
            <a:blip r:embed="rId4"/>
            <a:stretch/>
          </p:blipFill>
          <p:spPr>
            <a:xfrm>
              <a:off x="0" y="0"/>
              <a:ext cx="9144000" cy="6858000"/>
            </a:xfrm>
            <a:prstGeom prst="rect">
              <a:avLst/>
            </a:prstGeom>
            <a:ln w="0">
              <a:noFill/>
            </a:ln>
          </p:spPr>
        </p:pic>
        <p:pic>
          <p:nvPicPr>
            <p:cNvPr id="315" name="Picture 10" descr="SAMHSA title header.jpg"/>
            <p:cNvPicPr/>
            <p:nvPr/>
          </p:nvPicPr>
          <p:blipFill>
            <a:blip r:embed="rId5"/>
            <a:stretch/>
          </p:blipFill>
          <p:spPr>
            <a:xfrm>
              <a:off x="6477120" y="6096240"/>
              <a:ext cx="2434680" cy="685800"/>
            </a:xfrm>
            <a:prstGeom prst="rect">
              <a:avLst/>
            </a:prstGeom>
            <a:ln w="0">
              <a:noFill/>
            </a:ln>
          </p:spPr>
        </p:pic>
      </p:grpSp>
      <p:sp>
        <p:nvSpPr>
          <p:cNvPr id="31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7"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8" name="PlaceHolder 3"/>
          <p:cNvSpPr>
            <a:spLocks noGrp="1"/>
          </p:cNvSpPr>
          <p:nvPr>
            <p:ph type="dt" idx="18"/>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4B2E-EDC2-4437-8CD2-DAD415C3BF82}"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19"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BF5A-2527-4403-BFFB-9CA6DD3ACEEC}"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Group 2"/>
          <p:cNvGrpSpPr/>
          <p:nvPr/>
        </p:nvGrpSpPr>
        <p:grpSpPr>
          <a:xfrm>
            <a:off x="0" y="0"/>
            <a:ext cx="9144000" cy="6858000"/>
            <a:chOff x="0" y="0"/>
            <a:chExt cx="9144000" cy="6858000"/>
          </a:xfrm>
        </p:grpSpPr>
        <p:pic>
          <p:nvPicPr>
            <p:cNvPr id="358" name="Picture 8" descr="PPT Template3.jpg"/>
            <p:cNvPicPr/>
            <p:nvPr/>
          </p:nvPicPr>
          <p:blipFill>
            <a:blip r:embed="rId2"/>
            <a:stretch/>
          </p:blipFill>
          <p:spPr>
            <a:xfrm>
              <a:off x="0" y="0"/>
              <a:ext cx="9144000" cy="6858000"/>
            </a:xfrm>
            <a:prstGeom prst="rect">
              <a:avLst/>
            </a:prstGeom>
            <a:ln w="0">
              <a:noFill/>
            </a:ln>
          </p:spPr>
        </p:pic>
        <p:pic>
          <p:nvPicPr>
            <p:cNvPr id="359" name="Picture 1" descr="SAMHSA title header.jpg"/>
            <p:cNvPicPr/>
            <p:nvPr/>
          </p:nvPicPr>
          <p:blipFill>
            <a:blip r:embed="rId3"/>
            <a:stretch/>
          </p:blipFill>
          <p:spPr>
            <a:xfrm>
              <a:off x="6477120" y="6096240"/>
              <a:ext cx="2434680" cy="685800"/>
            </a:xfrm>
            <a:prstGeom prst="rect">
              <a:avLst/>
            </a:prstGeom>
            <a:ln w="0">
              <a:noFill/>
            </a:ln>
          </p:spPr>
        </p:pic>
      </p:grpSp>
      <p:sp>
        <p:nvSpPr>
          <p:cNvPr id="3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 name="PlaceHolder 3"/>
          <p:cNvSpPr>
            <a:spLocks noGrp="1"/>
          </p:cNvSpPr>
          <p:nvPr>
            <p:ph type="dt" idx="21"/>
          </p:nvPr>
        </p:nvSpPr>
        <p:spPr>
          <a:xfrm>
            <a:off x="28195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A9EB-CF60-4CCC-9852-24D93E8CE74E}"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363"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B4B6-CB59-4E01-906B-FBA084C7B069}"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hyperlink" Target="mailto:Tenly.Biggs@samhsa.hhs.gov" TargetMode="External"/><Relationship Id="rId2" Type="http://schemas.openxmlformats.org/officeDocument/2006/relationships/hyperlink" Target="mailto:gwendolyn.simpson@samhsa.hhs.gov" TargetMode="External"/><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0" y="228600"/>
            <a:ext cx="91440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gency Contacts</a:t>
            </a:r>
            <a:endParaRPr b="0" lang="en-US" sz="4000" spc="-1" strike="noStrike">
              <a:solidFill>
                <a:srgbClr val="000000"/>
              </a:solidFill>
              <a:latin typeface="Arial"/>
            </a:endParaRPr>
          </a:p>
        </p:txBody>
      </p:sp>
      <p:sp>
        <p:nvSpPr>
          <p:cNvPr id="601" name="TextBox 1"/>
          <p:cNvSpPr/>
          <p:nvPr/>
        </p:nvSpPr>
        <p:spPr>
          <a:xfrm>
            <a:off x="222120" y="1523880"/>
            <a:ext cx="8686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For questions about program issues contact:</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ly Pau Biggs, MSW, LGS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Mental Health Services, Community Support Programs Bra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ce Abuse and Mental Health Services Adminis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hoke Cherry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6-10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ville, Maryland 208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276-24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enly.Biggs@samhsa.hhs.gov</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For questions on grants management and budget issues conta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wendolyn Simpson</a:t>
            </a:r>
            <a:br>
              <a:rPr sz="1800"/>
            </a:br>
            <a:r>
              <a:rPr b="0" lang="en-US" sz="1800" spc="-1" strike="noStrike">
                <a:solidFill>
                  <a:srgbClr val="000000"/>
                </a:solidFill>
                <a:latin typeface="Arial"/>
              </a:rPr>
              <a:t>Office of Financial Resources, Division of Grants Management</a:t>
            </a:r>
            <a:br>
              <a:rPr sz="1800"/>
            </a:br>
            <a:r>
              <a:rPr b="0" lang="en-US" sz="1800" spc="-1" strike="noStrike">
                <a:solidFill>
                  <a:srgbClr val="000000"/>
                </a:solidFill>
                <a:latin typeface="Arial"/>
              </a:rPr>
              <a:t>Substance Abuse and Mental Health Services Administration</a:t>
            </a:r>
            <a:br>
              <a:rPr sz="1800"/>
            </a:br>
            <a:r>
              <a:rPr b="0" lang="en-US" sz="1800" spc="-1" strike="noStrike">
                <a:solidFill>
                  <a:srgbClr val="000000"/>
                </a:solidFill>
                <a:latin typeface="Arial"/>
              </a:rPr>
              <a:t>1 Choke Cherry Road</a:t>
            </a:r>
            <a:br>
              <a:rPr sz="1800"/>
            </a:br>
            <a:r>
              <a:rPr b="0" lang="en-US" sz="1800" spc="-1" strike="noStrike">
                <a:solidFill>
                  <a:srgbClr val="000000"/>
                </a:solidFill>
                <a:latin typeface="Arial"/>
              </a:rPr>
              <a:t>Room 7-1091</a:t>
            </a:r>
            <a:br>
              <a:rPr sz="1800"/>
            </a:br>
            <a:r>
              <a:rPr b="0" lang="en-US" sz="1800" spc="-1" strike="noStrike">
                <a:solidFill>
                  <a:srgbClr val="000000"/>
                </a:solidFill>
                <a:latin typeface="Arial"/>
              </a:rPr>
              <a:t>Rockville, Maryland 20857</a:t>
            </a:r>
            <a:br>
              <a:rPr sz="1800"/>
            </a:br>
            <a:r>
              <a:rPr b="0" lang="en-US" sz="1800" spc="-1" strike="noStrike">
                <a:solidFill>
                  <a:srgbClr val="000000"/>
                </a:solidFill>
                <a:latin typeface="Arial"/>
              </a:rPr>
              <a:t>(240) 276-1408</a:t>
            </a:r>
            <a:br>
              <a:rPr sz="1800"/>
            </a:br>
            <a:r>
              <a:rPr b="0" lang="en-US" sz="1800" spc="-1" strike="noStrike" u="sng">
                <a:solidFill>
                  <a:srgbClr val="0000ff"/>
                </a:solidFill>
                <a:uFillTx/>
                <a:latin typeface="Arial"/>
                <a:hlinkClick r:id="rId2"/>
              </a:rPr>
              <a:t>gwendolyn.simpson@samhsa.hhs.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0" y="228600"/>
            <a:ext cx="91440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6"/>
          <p:cNvSpPr/>
          <p:nvPr/>
        </p:nvSpPr>
        <p:spPr>
          <a:xfrm>
            <a:off x="1676520" y="1828800"/>
            <a:ext cx="746748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rimary and Behavioral Health Care Integration (PBHCI)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ea typeface="Arial"/>
              </a:rPr>
              <a:t>Request for Application (RFA)</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ea typeface="Arial"/>
              </a:rPr>
              <a:t>No. SM-15-005</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TextBox 3"/>
          <p:cNvSpPr/>
          <p:nvPr/>
        </p:nvSpPr>
        <p:spPr>
          <a:xfrm>
            <a:off x="1600200" y="5562720"/>
            <a:ext cx="449568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anuary 15, 201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nly Pau Biggs, Roxanne Castaneda, &amp; Marian Scheinholt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nter for Mental Health Service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2204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Overview of PBHCI</a:t>
            </a:r>
            <a:endParaRPr b="0" lang="en-US" sz="4000" spc="-1" strike="noStrike">
              <a:solidFill>
                <a:srgbClr val="000000"/>
              </a:solidFill>
              <a:latin typeface="Calibri"/>
            </a:endParaRPr>
          </a:p>
        </p:txBody>
      </p:sp>
      <p:sp>
        <p:nvSpPr>
          <p:cNvPr id="58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C325-442D-4861-B4BA-F2A152AEC1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1" name="Rectangle 3"/>
          <p:cNvSpPr/>
          <p:nvPr/>
        </p:nvSpPr>
        <p:spPr>
          <a:xfrm>
            <a:off x="76320" y="1523880"/>
            <a:ext cx="87627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Purpose</a:t>
            </a:r>
            <a:r>
              <a:rPr b="1" lang="en-US" sz="2200" spc="-1" strike="noStrike">
                <a:solidFill>
                  <a:srgbClr val="000000"/>
                </a:solidFill>
                <a:latin typeface="Arial"/>
                <a:ea typeface="Arial"/>
              </a:rPr>
              <a:t>: to establish projects for the provision of coordinated and integrated services through the co-location of primary and specialty care services in community-based mental and behavioral health settings. </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Goal</a:t>
            </a:r>
            <a:r>
              <a:rPr b="1" lang="en-US" sz="2200" spc="-1" strike="noStrike">
                <a:solidFill>
                  <a:srgbClr val="000000"/>
                </a:solidFill>
                <a:latin typeface="Arial"/>
                <a:ea typeface="Arial"/>
              </a:rPr>
              <a:t>: to improve the physical health status of </a:t>
            </a:r>
            <a:r>
              <a:rPr b="1" lang="en-US" sz="2200" spc="-1" strike="noStrike" u="sng">
                <a:solidFill>
                  <a:srgbClr val="000000"/>
                </a:solidFill>
                <a:uFillTx/>
                <a:latin typeface="Arial"/>
                <a:ea typeface="Arial"/>
              </a:rPr>
              <a:t>adults with serious mental illnesses (SMI)</a:t>
            </a:r>
            <a:r>
              <a:rPr b="1" lang="en-US" sz="2200" spc="-1" strike="noStrike">
                <a:solidFill>
                  <a:srgbClr val="000000"/>
                </a:solidFill>
                <a:latin typeface="Arial"/>
                <a:ea typeface="Arial"/>
              </a:rPr>
              <a:t> and those with co-occurring substance use disorders who have or are at risk for co-occurring primary care conditions and chronic diseases</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Objective</a:t>
            </a:r>
            <a:r>
              <a:rPr b="1" lang="en-US" sz="2200" spc="-1" strike="noStrike">
                <a:solidFill>
                  <a:srgbClr val="000000"/>
                </a:solidFill>
                <a:latin typeface="Arial"/>
                <a:ea typeface="Arial"/>
              </a:rPr>
              <a:t>: to support the triple aim of improving the health of individuals with SMI; enhancing the consumer’s experience of care (including quality, access, and reliability); and reducing/controlling the per capita cost of ca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686800" cy="1020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8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833-6109-48F4-85C3-9340521F7A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4" name="Rectangle 3"/>
          <p:cNvSpPr/>
          <p:nvPr/>
        </p:nvSpPr>
        <p:spPr>
          <a:xfrm>
            <a:off x="152280" y="1523880"/>
            <a:ext cx="8991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ligi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igibility for this program is statutorily limited to qualified community mental health programs, as defined under section 1913(b)(1) of the Public Health Service Act, as amend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statutory authority for this program prohibits grants to for-profit agenc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686800" cy="1020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8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58EB-2B65-4C23-8E4E-5AFAA3EFB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Rectangle 3"/>
          <p:cNvSpPr/>
          <p:nvPr/>
        </p:nvSpPr>
        <p:spPr>
          <a:xfrm>
            <a:off x="76320" y="1523880"/>
            <a:ext cx="8991360" cy="48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SAMHSA believes that only existing, experienced, and appropriately credentialed organizations with demonstrated infrastructure and expertise will be able to provide required services quickly and effectively.  You must meet three additional requirements related to the provision of services.</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ea typeface="Arial"/>
              </a:rPr>
              <a:t>The three requirements are</a:t>
            </a:r>
            <a:r>
              <a:rPr b="1" lang="en-US" sz="1500" spc="-1" strike="noStrike">
                <a:solidFill>
                  <a:srgbClr val="000000"/>
                </a:solidFill>
                <a:latin typeface="Arial"/>
                <a:ea typeface="Arial"/>
              </a:rPr>
              <a:t>:</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A provider organization for direct client mental health services appropriate to the grant must be involved in the proposed project.  The provider may be the applicant or another organization committed to the project.  More than one provider organization may be involved;</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Each treatment provider (including partnering primary care) organization must have at least 2 years’ experience (as of the due date of the application)  providing relevant services in the geographic area(s) in which services are to be provided (official documents must establish that the organization has provided relevant services for the </a:t>
            </a:r>
            <a:r>
              <a:rPr b="1" lang="en-US" sz="1500" spc="-1" strike="noStrike" u="sng">
                <a:solidFill>
                  <a:srgbClr val="000000"/>
                </a:solidFill>
                <a:uFillTx/>
                <a:latin typeface="Arial"/>
                <a:ea typeface="Arial"/>
              </a:rPr>
              <a:t>last 2 years</a:t>
            </a:r>
            <a:r>
              <a:rPr b="1" lang="en-US" sz="1500" spc="-1" strike="noStrike">
                <a:solidFill>
                  <a:srgbClr val="000000"/>
                </a:solidFill>
                <a:latin typeface="Arial"/>
                <a:ea typeface="Arial"/>
              </a:rPr>
              <a:t>); and</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Each treatment provider (including partnering primary care) organization must comply with all applicable local (city, county) and state licensing, accreditation and certification requirements, as of the due date of the application.</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ote:  The above requirements apply to all service provider organizations.  A license from an individual clinician will not be accepted in lieu of a provider organization’s license.  </a:t>
            </a:r>
            <a:r>
              <a:rPr b="1" lang="en-US" sz="1500" spc="-1" strike="noStrike" u="sng">
                <a:solidFill>
                  <a:srgbClr val="000000"/>
                </a:solidFill>
                <a:uFillTx/>
                <a:latin typeface="Arial"/>
                <a:ea typeface="Arial"/>
              </a:rPr>
              <a:t>Eligible tribes and tribal organization mental health/substance abuse treatment providers </a:t>
            </a:r>
            <a:r>
              <a:rPr b="1" lang="en-US" sz="1500" spc="-1" strike="noStrike">
                <a:solidFill>
                  <a:srgbClr val="000000"/>
                </a:solidFill>
                <a:latin typeface="Arial"/>
                <a:ea typeface="Arial"/>
              </a:rPr>
              <a:t>must comply with all applicable tribal licensing, accreditation, and certification requirements, as of the due date of the applic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686800" cy="1020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89"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0CAE-09DF-46A2-8EFB-B5693CBC14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Rectangle 3"/>
          <p:cNvSpPr/>
          <p:nvPr/>
        </p:nvSpPr>
        <p:spPr>
          <a:xfrm>
            <a:off x="152280" y="1523880"/>
            <a:ext cx="8991720" cy="47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ea typeface="Arial"/>
              </a:rPr>
              <a:t>Core Requirement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ovide, by qualified primary care professionals, on site primary care services and </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ovide, by qualified specialty care professionals or other coordinators of care, medically necessary referral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ea typeface="Arial"/>
              </a:rPr>
              <a:t>Must serve as a client’s health home where grantees provide the following service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omprehensive care management </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are coordination </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Health promotion</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Comprehensive transitional care from inpatient to other settings, including appropriate follow-up</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Individual and family support, which includes authorized representatives</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Referral to community and social support services, including appropriate follow-up</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25B8-CDD3-4A29-B867-503388AD64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93" name="Rectangle 3"/>
          <p:cNvSpPr/>
          <p:nvPr/>
        </p:nvSpPr>
        <p:spPr>
          <a:xfrm>
            <a:off x="0" y="152388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stablish PBHCI Coordination Teams, which at minimum inclu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ef Executive Offic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ef Financial Offic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ef Medical Direct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mary Care Lea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BHCI Project Direct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BHCI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provide details on their roles in Attachment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tegration treatment team (at minimum inclu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mary care provider (e.g., doctor, nurse practitioner, physician assistant, medical assistant, etc.</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rse care coordinat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grated care manag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er wellness coac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occurring substance use disorder counselo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pharmacist, nutritionist/dietician, dentist, occupational therapist,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9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59D8-9304-46FA-B477-2476D71E86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6" name="Rectangle 3"/>
          <p:cNvSpPr/>
          <p:nvPr/>
        </p:nvSpPr>
        <p:spPr>
          <a:xfrm>
            <a:off x="0" y="1542960"/>
            <a:ext cx="8991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Health Information Technology (HIT)</a:t>
            </a:r>
            <a:r>
              <a:rPr b="1" lang="en-US" sz="2000" spc="-1" strike="noStrike">
                <a:solidFill>
                  <a:srgbClr val="000000"/>
                </a:solidFill>
                <a:latin typeface="Arial"/>
                <a:ea typeface="Arial"/>
              </a:rPr>
              <a:t>: Grantees must achieve Meaningful Use Standards, as defined by CMS, by the end of the grant perio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Prevention &amp; Health Promotion</a:t>
            </a:r>
            <a:r>
              <a:rPr b="1" lang="en-US" sz="2000" spc="-1" strike="noStrike">
                <a:solidFill>
                  <a:srgbClr val="000000"/>
                </a:solidFill>
                <a:latin typeface="Arial"/>
                <a:ea typeface="Arial"/>
              </a:rPr>
              <a:t>: Grantees are expected to implement </a:t>
            </a:r>
            <a:r>
              <a:rPr b="1" i="1" lang="en-US" sz="2000" spc="-1" strike="noStrike">
                <a:solidFill>
                  <a:srgbClr val="000000"/>
                </a:solidFill>
                <a:latin typeface="Arial"/>
                <a:ea typeface="Arial"/>
              </a:rPr>
              <a:t>evidence-based tobacco cessation and nutrition/exercise interventions</a:t>
            </a:r>
            <a:r>
              <a:rPr b="1" lang="en-US" sz="2000" spc="-1" strike="noStrike">
                <a:solidFill>
                  <a:srgbClr val="000000"/>
                </a:solidFill>
                <a:latin typeface="Arial"/>
                <a:ea typeface="Arial"/>
              </a:rPr>
              <a:t>, in addition to other health promotion programs (e.g. wellness consultation, health education and literacy, self-help/ management programs). These programs should </a:t>
            </a:r>
            <a:r>
              <a:rPr b="1" i="1" lang="en-US" sz="2000" spc="-1" strike="noStrike">
                <a:solidFill>
                  <a:srgbClr val="000000"/>
                </a:solidFill>
                <a:latin typeface="Arial"/>
                <a:ea typeface="Arial"/>
              </a:rPr>
              <a:t>incorporate recovery principles and peer leadership and support,</a:t>
            </a:r>
            <a:r>
              <a:rPr b="1" lang="en-US" sz="2000" spc="-1" strike="noStrike">
                <a:solidFill>
                  <a:srgbClr val="000000"/>
                </a:solidFill>
                <a:latin typeface="Arial"/>
                <a:ea typeface="Arial"/>
              </a:rPr>
              <a:t> and must be included in the integrated person-centered care pla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ustainability</a:t>
            </a:r>
            <a:r>
              <a:rPr b="1" lang="en-US" sz="2000" spc="-1" strike="noStrike">
                <a:solidFill>
                  <a:srgbClr val="000000"/>
                </a:solidFill>
                <a:latin typeface="Arial"/>
                <a:ea typeface="Arial"/>
              </a:rPr>
              <a:t>: Grantees must submit a sustainability plan in the beginning of Year 2 of their grant, detailing how expanded Medicaid eligibility,  available CMS/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party billing, and other strategies will be utilized to sustain services post-gra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686800" cy="102060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BHCI Requirements</a:t>
            </a:r>
            <a:endParaRPr b="0" lang="en-US" sz="4000" spc="-1" strike="noStrike">
              <a:solidFill>
                <a:srgbClr val="000000"/>
              </a:solidFill>
              <a:latin typeface="Calibri"/>
            </a:endParaRPr>
          </a:p>
        </p:txBody>
      </p:sp>
      <p:sp>
        <p:nvSpPr>
          <p:cNvPr id="59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234C-1950-48C2-9548-8A5E81738D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Rectangle 3"/>
          <p:cNvSpPr/>
          <p:nvPr/>
        </p:nvSpPr>
        <p:spPr>
          <a:xfrm>
            <a:off x="0" y="1542960"/>
            <a:ext cx="8991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HHS/CMS Million Hearts Initiative ™</a:t>
            </a:r>
            <a:r>
              <a:rPr b="1" lang="en-US" sz="2000" spc="-1" strike="noStrike">
                <a:solidFill>
                  <a:srgbClr val="000000"/>
                </a:solidFill>
                <a:latin typeface="Arial"/>
                <a:ea typeface="Arial"/>
              </a:rPr>
              <a:t>:  Supports cardiovascular disease prevention activities across the public and private sectors to prevent 1 million heart attacks and strokes by 2017. The targeted focus is on the “ABCS” – aspirin for people at risk, blood pressure control, cholesterol management and smoking cessat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Data collection</a:t>
            </a:r>
            <a:r>
              <a:rPr b="1" lang="en-US" sz="2000" spc="-1" strike="noStrike">
                <a:solidFill>
                  <a:srgbClr val="000000"/>
                </a:solidFill>
                <a:latin typeface="Arial"/>
                <a:ea typeface="Arial"/>
              </a:rPr>
              <a:t>: Grantees are expected to collect and report on the following health outcomes:  blood pressure, body mass index (BMI), waist circumference, breath CO (carbon monoxide), plasma glucose (fasting) and/or HgbA1c, and the lipid profile (HDL, LDL, triglycerides). Grantees will be expected to use one of the four hypertension protocols recommended by the CDC.  Grantees are also expected to collect the National Outcomes Measures (NOM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13:11Z</dcterms:created>
  <dc:creator>DHHS - SAMHSA</dc:creator>
  <dc:description/>
  <cp:keywords>template powerpoint samhsa</cp:keywords>
  <dc:language>en-US</dc:language>
  <cp:lastModifiedBy>Tenly Pau Biggs</cp:lastModifiedBy>
  <dcterms:modified xsi:type="dcterms:W3CDTF">2015-01-15T14:25:55Z</dcterms:modified>
  <cp:revision>185</cp:revision>
  <dc:subject>SAMSHA Powerpoint Template</dc:subject>
  <dc:title>SAMHS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US English</vt:lpwstr>
  </property>
</Properties>
</file>